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D199-6EE9-4A88-A674-B0BCEC786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9AD-6B12-48F1-A3DB-C0EBC61F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0880-EBB9-4E34-B6A9-EDD5BB13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C76-A9DF-43F0-B0F0-23CF47AF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434D-41CE-4F32-A00D-DDADB5A6B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2BA-8AA5-4CCA-818A-CF372B19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1E17-582E-4AEE-9DD0-A43EDEE9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A1A2-3D91-4B74-940F-6395686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F81C-E580-401B-B122-09333F64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56BC-CDAA-4EEC-BD1D-1D1EDAB9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73A1-3D1E-458B-8308-A3D47146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D1A-E206-4AF9-9796-77548002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3948-1CA9-457C-ADC4-D5610FFD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886E-DC92-4762-963D-2849B24B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0C1-445A-4D04-A866-BEBEBE31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4609-8296-4322-ABE9-4680C7B5D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E31C-C05A-44E6-9213-DD1C3185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3740-C0A5-4BCC-835E-75EB9BCA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80C4-EDAB-496B-80F1-A3DEAF46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0014-FEB6-4948-A4A5-45197E6F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2DA9-B695-427F-95FB-6E7D28E2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44C-8AEE-4836-86BD-0502DD66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D3D-F791-4EF5-920F-90B1F06C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D64-89D1-4798-A2F8-B52C9CF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8DFD4-EB47-49F6-B72E-286098E3C08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5AE72-3D22-468B-9257-3649E183FAF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1AEF77-0C5B-461F-ACAD-E05C74F303E8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70ADCA-A379-47F2-8287-FC55616DC311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ills for aquatic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tle cavity functions as lung for terrestrial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2857320" cy="406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15000" y="1447920"/>
            <a:ext cx="3048120" cy="4064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238560" y="1676520"/>
            <a:ext cx="24764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ollusk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549360" y="1676520"/>
            <a:ext cx="8042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ntle produces a shell in most speci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scular foot &amp;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all brain with ventral nerve cor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most species are hermaphrodites with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 digestive tract with specialized regions (mouth, pharynx, etc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en system with dorsal hear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*cephalopods are an exception with close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irculatory syste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phridia (primitive kidney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3:36:10Z</dcterms:modified>
  <cp:revision>7</cp:revision>
  <dc:subject/>
  <dc:title>Animal Phyla Chart</dc:title>
</cp:coreProperties>
</file>